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7BE-DCE9-4BD3-B28A-ACD5C4CC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813-A937-45AA-965E-8D88DFB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C5F-65A1-4D5D-9CE2-CEC4C671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E57-CCFF-4694-9921-0DB16C30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817A-1A11-47F8-8FDC-C8225B92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E013-380B-45EE-ADFD-B5FFFFED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0686-6D3E-4CDC-B66F-3B8CE82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D79-1A4B-478B-BFCD-6122D4E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730-F7C9-4E15-98B1-39103DAB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F0E-BCAA-4672-B09E-D3FCAA13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42CC-5DFC-4C40-A23C-E2B1EC4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AF3-3F33-4BF0-BE44-3E049E7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A702-2AA3-4AC9-85BE-48488DF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9E5A-22F6-4973-AEB3-BC56314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F92D-787F-436B-9F76-3B3634DB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CCC7-596F-41E9-928D-374155F2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04E5-3FA3-46FA-BBAA-30F4A133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776-4985-408A-AB9F-6BFE610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314-AE82-429E-B9C6-992A6F4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141-90F0-4043-92AA-13A2A3F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0F5-1652-4C6B-A2A1-A478E40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F15-93C6-42C0-8C1C-46D7360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75A-B7F5-479E-B162-0AAF9F4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337-E44C-4782-B71B-9EF49E17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0BF-9929-4BDB-B2A3-2614276D90A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68F4-9EF3-4E38-A17F-A5A24A975AE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2480" y="3716280"/>
            <a:ext cx="5340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4941720"/>
            <a:ext cx="15112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054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4c2b"/>
                </a:solidFill>
                <a:latin typeface="Times New Roman"/>
              </a:rPr>
              <a:t>Aplicação dos Recursos da Cobrança na Bacia do Paraíba do Su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34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Novembro/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9360" y="27936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7936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43080" y="1676520"/>
            <a:ext cx="861048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3:  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R$5.800.000 (sem 3 meses CSN)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Situação atual: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Projetos /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Obras em contratação / execução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vênios ANA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 CEF 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Municípios Beneficiados</a:t>
            </a:r>
            <a:br>
              <a:rPr sz="2400"/>
            </a:b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84360" y="6132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393480"/>
            <a:ext cx="659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333333"/>
                </a:solidFill>
                <a:latin typeface="Times New Roman"/>
              </a:rPr>
              <a:t>QUADRO DE APLICAÇÃO DE RECURSOS – COBRANÇA CONDOMINIAL – EXERCÍCIO DE 2003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880" y="5793840"/>
            <a:ext cx="77724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902120"/>
            <a:ext cx="8610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Totalidade dos recursos empenhados no exercício de 200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Não foi possível a assinatura do contrato de Guaratinguetá e da obra emergencial de Barra Mansa com a CEF e os recursos foram perdido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controle de erosã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sgotos de Barra Mansa licitad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Projeto ETE Muriaé concluído, obra hierarquizada em 2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buClr>
                <a:srgbClr val="333333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Times New Roman"/>
              </a:rPr>
              <a:t>Obras de esgotamento sanitário em andamento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2080" y="1550880"/>
          <a:ext cx="7383600" cy="32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550880"/>
                    <a:ext cx="73836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17520" y="1778040"/>
            <a:ext cx="86104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ecursos 2004:</a:t>
            </a: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R$6.350.000 (Sem CSN)</a:t>
            </a:r>
            <a:br>
              <a:rPr sz="2400"/>
            </a:br>
            <a:r>
              <a:rPr b="1" lang="pt-BR" sz="2400" spc="-1" strike="noStrike">
                <a:solidFill>
                  <a:srgbClr val="004c2b"/>
                </a:solidFill>
                <a:latin typeface="Times New Roman"/>
              </a:rPr>
              <a:t>Projetos/Obras em contratação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trato de Gestão ANA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Conta Corrente CEF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Investimentos AGEVAP  </a:t>
            </a:r>
            <a:r>
              <a:rPr b="1" lang="pt-BR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 CEF (2,2%)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Contrato de Gestão assinado em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Desembolso de recursos a partir de setembro/2004</a:t>
            </a:r>
            <a:br>
              <a:rPr sz="2400"/>
            </a:br>
            <a:r>
              <a:rPr b="1" lang="pt-BR" sz="2400" spc="-1" strike="noStrike">
                <a:solidFill>
                  <a:srgbClr val="333333"/>
                </a:solidFill>
                <a:latin typeface="Times New Roman"/>
              </a:rPr>
              <a:t>Recursos repassados não retornam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a Uniã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182680" y="1397160"/>
          <a:ext cx="6166080" cy="52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1397160"/>
                    <a:ext cx="6166080" cy="52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Cobrança CEIVAP</a:t>
            </a:r>
            <a:br>
              <a:rPr sz="2800"/>
            </a:b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Aplicação de Recursos da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55680" y="1422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brança aprovada pela Resolução 06/2003 do CERHI/RJ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de junho de 2003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é Lei 4247/2003 aprovada em dezembro de 2003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2004:</a:t>
            </a:r>
            <a:r>
              <a:rPr b="0" lang="pt-BR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R$700.000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Recursos depositados no FUNDRHI (não sujeitos a contingenciamento ou esterilização ao fim do exercíc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120" y="4560120"/>
            <a:ext cx="8547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4c2b"/>
                </a:solidFill>
                <a:latin typeface="Times New Roman"/>
              </a:rPr>
              <a:t>SISTEMÁTICA DE APLICAÇÃ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Convênio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 AGEVAP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Conta Corrente CEF (10% recursos)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10% Órgão Gestor (SERLA)</a:t>
            </a:r>
            <a:br>
              <a:rPr sz="2000"/>
            </a:b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80% recursos Contrato/Convênios SERLA </a:t>
            </a:r>
            <a:r>
              <a:rPr b="1" lang="pt-BR" sz="20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Municípios ou executor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DELIBERAÇÃO CEIVAP N.º ____/2004                           DE 23 DE NOVEMBRO DE 2004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98760" y="1522440"/>
          <a:ext cx="597060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22440"/>
                    <a:ext cx="597060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47480" y="228600"/>
            <a:ext cx="6743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25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5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91960" y="1181160"/>
            <a:ext cx="861084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mitê Guandu: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GT Comitê Guandu estuda proposta de cobrança altern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47480" y="228240"/>
            <a:ext cx="67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4c2b"/>
                </a:solidFill>
                <a:latin typeface="Times New Roman"/>
              </a:rPr>
              <a:t>Lei 4247: Cobrança em Rios de Domínio do Estado do Rio de Janeiro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95360" y="423720"/>
          <a:ext cx="13716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3720"/>
                    <a:ext cx="1371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55680" y="1422360"/>
            <a:ext cx="86104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mitê Guandu:</a:t>
            </a:r>
            <a:br>
              <a:rPr sz="2400"/>
            </a:b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- Considerando a existência 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Não conflita com a Resolução CERHI 06/2003 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Institui cobrança “transitória” em bacias de rios exclusivamente estaduais (bacias costeiras)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/RJ aprovou em outubro/2004 proposta de reformulação da Lei 4247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T Legal e Institucional preparou proposta de regulamentação da lei nos aspectos cabíveis a ser discutida na próxima reunião do CERHI</a:t>
            </a:r>
            <a:br>
              <a:rPr sz="2400"/>
            </a:b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- CERHI aprovou aplicação dos recursos da cobrança na Bacia do Guandu para implantação e manutenção da Secretaria Executiva do Comitê e outros comitês estaduais estão pleiteando o mesm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838760"/>
            <a:ext cx="7340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30:58Z</dcterms:created>
  <dc:creator>Formiga Johnsson</dc:creator>
  <dc:description/>
  <dc:language>en-US</dc:language>
  <cp:lastModifiedBy>SRH</cp:lastModifiedBy>
  <dcterms:modified xsi:type="dcterms:W3CDTF">2004-12-06T19:22:05Z</dcterms:modified>
  <cp:revision>318</cp:revision>
  <dc:subject>palestra panorama nacional reformas</dc:subject>
  <dc:title>Seminario1 UEG</dc:title>
</cp:coreProperties>
</file>